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B4B8-2208-42AF-9E70-63C39A57E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748F-6621-4D01-9605-F4AEE7EE9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2715-4C7F-4A86-B08A-AAE572446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9376-DABE-4A2D-9602-2D4355233B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24DD-A97A-4C04-A4F8-02FD4FA1D6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A80C-40BC-4ACB-B10F-268EF1490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1A8B-4AB7-412F-A365-01A6B4AD2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862B-B7E0-4E9C-93F8-79AF6B4FB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11ED-C4A8-4913-93F5-0D9F60FA1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AA49-1CF0-4B30-A299-18C5BDA67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95B8-F1A7-460D-A74D-64D4098A8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058B-2C14-48AC-9713-EF2F4E44B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88F4-2967-4C8D-8631-7B213278D3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2C7D-F19A-466F-9054-C8EF5F4928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nother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pair takes the role of the student.  Role play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other pair takes the role of the teacher.  Practice “responding to students in the momen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verse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978D-68F2-47E1-9E76-ED2BD80A13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C472-6E0F-4E9C-922E-F2EAFDA02C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ink about the Role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hout Out …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rds and/or phrases you used for feedback that you felt were 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3328-70F0-4109-B218-F47B824FB9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C813-066F-414F-BBD2-CBF876B874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comfort level, learning and next steps related to giving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1FB-1CEE-49D4-B4FD-7377649DC6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A9BE-8B93-4D0A-BB8D-0D0EE11C1D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 you enter…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will be focussing on a course in the secondary math curriculum for our first afternoon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ve to the corner that represents the </a:t>
            </a: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grade leve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you would like to work on (see posters in the four corners of the ro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it there until further instructio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connections between key components of algebraic thinking and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key components of algebraic thinking and proportional reasoning in the curriculum expectations for a specific course (participant to cho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dentify key proportional reasoning concepts in a sample grade 9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ponding to students “in the moment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F2F6-CF49-4708-A542-06882B0903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274E-8C65-4F9D-A7F8-95F639B152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sid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sticker dot graph of courses our group created on the first day showing what we have taught or will be teaching thi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re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‘course’ groups of 3 or 4 participants to look at components of algebraic thinking and proportional reasoning in the curriculum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9AF4-2A0B-4471-8A11-10AAA67FC0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D277-5D1B-476A-9C16-6A80158568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half of a sheet of chart paper, create a Venn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the Venn Diagram to illustrate similarities and differences between the key mathematical ideas related to Proportional Reasoning and Algebraic Thinking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 gener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not related to your specific cou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hink about: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formation from our plenary sessions and the Big Ideas in the CAMPPP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67CC-AE6B-44AA-998E-78B47D49D3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A9C9-7C82-4949-9EFD-8CE34F0F86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hange Venn Diagrams with a neighbour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really like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are wondering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turn Venn Diagrams to original tab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80A8-ECD7-434C-9945-260078FB5B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9458-9ABF-4577-9614-9DF7DA8D43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the course you chose to work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p out the expectations related to Proportional Reasoning and Algebraic Thinking on a Venn Diagram – look for similarities/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t your Venn Diagram on the side table when your group is done. Will use again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source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Hard copies of curriculum documents are available as well as on-lin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CB38-A194-45F7-9B9F-35D73BA8BE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B26A-3020-4258-BC82-4CAAF3FEE8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29200" y="990720"/>
            <a:ext cx="342900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4800600"/>
            <a:ext cx="3200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9 Math Problem – Keepin’ 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student council collects aluminium pop tabs to raise money to purchase a wheel chair. A company buys the pop tabs for $0.88 per kil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important proportional reasoning concepts do you see in this problem from a grade 9 content perspec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how your work.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F7D4-5A5F-4647-BB68-1A07FBB12D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D6E4-1EA7-4666-940E-1FBDFF0CDD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cc0099"/>
                </a:solidFill>
                <a:latin typeface="Arial"/>
              </a:rPr>
              <a:t>Solve with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943240" y="152388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aft a ‘student solution’.  Think about possible student  approaches/misconceptions as you create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lan out how you will ‘act it out’….you will be role playing the solution in a few minutes – take this time to jot down how you will ‘play student’ when you have to role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AEC4-F450-422E-AD3F-E513360283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F8D9-8E97-4D78-A8EF-B5663E6486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990720"/>
            <a:ext cx="2666880" cy="99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With your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17T21:36:28Z</dcterms:modified>
  <cp:revision>27</cp:revision>
  <dc:subject/>
  <dc:title>&lt;Title&gt;</dc:title>
</cp:coreProperties>
</file>